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0EB-D488-4346-B16F-CCDF2DBB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192-7648-47B0-9555-FB4D18B7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890-2886-4B65-9381-8E41FDAA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50D-EFF3-4ECD-83E9-AFF88DB0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DBE7-D752-4678-A726-4CA5729E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80E-78B1-4CDE-94C7-23911AA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28AD-C02C-4080-A60F-53A96816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963-7815-466D-9816-78AEE09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42BB-652F-4279-84EA-F265E3BD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4924-06A6-4306-AC9A-8A121766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2D9A-7383-489A-B167-106BA93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FF8-3E9F-4E0E-9372-3A1A20F8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B1B-580E-4D74-A67B-7BCB1EFE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F38F-5B3E-426E-9225-5C0CA845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5C2E-030C-45D7-8DC8-E1AD7CBD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E26-0ED1-4EBB-A154-A52205D0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E2C6-B950-45FA-A82B-264BCDCF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7FE-1D21-4FB5-A835-593F41AE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FE7-4115-4935-9DED-65929B3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8D6-E4C5-44A5-AFC1-47C2C43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1EF-62C7-4888-B296-C3DAD65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AE5-CC9D-4B36-823C-4882BD2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ED7-F02B-41AB-AED5-45F0334A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57C-B2DF-4497-81F8-5429BBE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9CC-C2B4-4B81-8886-7993983CE0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7406-831A-4081-895B-29C2F1DD04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IC EXPRESSIONS and EQU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</a:t>
            </a:r>
            <a:r>
              <a:rPr b="0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GAME TIME!!! 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://www.math-play.com/Algebraic-Expressions-Millionaire/algebraic-expressions-millionaire.htm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kim.nelson Nelson</cp:lastModifiedBy>
  <dcterms:modified xsi:type="dcterms:W3CDTF">2011-12-10T15:42:46Z</dcterms:modified>
  <cp:revision>6</cp:revision>
  <dc:subject/>
  <dc:title>Algebra I</dc:title>
</cp:coreProperties>
</file>